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814B-317A-42DE-8E85-E4E0ADC5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3B01-641B-42D5-8DE0-06193FDB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9E7A-6221-4715-950E-8688B6EA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92FF-56AB-4708-9703-B6A7F9AD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6275-9885-4B05-8A9C-EC120352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B110-D873-428F-BE0C-34DBDD5B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9E56-4BF5-46A4-B343-82EE66AE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1EED-BD8C-4479-8BEA-8ED672FE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1656-4CFE-4EB9-9F6D-C2078D7A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B5C2-51E5-4F30-8ABB-0F7C8767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E0B9-DC72-4505-8870-27C6553D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8B74-A3E3-4950-AB6F-8D364DE4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9793-4EA3-4E24-BF71-1BA25F2A8B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3600" y="1676520"/>
            <a:ext cx="512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onfounding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Versu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ter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32970"/>
          <a:stretch/>
        </p:blipFill>
        <p:spPr>
          <a:xfrm>
            <a:off x="1143000" y="990720"/>
            <a:ext cx="7162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762120"/>
            <a:ext cx="74674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90720" y="838080"/>
            <a:ext cx="7162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295280" y="1295280"/>
            <a:ext cx="617220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00200" y="1371600"/>
            <a:ext cx="6172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00200" y="1143000"/>
            <a:ext cx="6172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76520" y="1447920"/>
            <a:ext cx="609588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295280"/>
            <a:ext cx="647676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95280" y="1219320"/>
            <a:ext cx="670572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219320" y="1228680"/>
            <a:ext cx="66294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58731"/>
          <a:stretch/>
        </p:blipFill>
        <p:spPr>
          <a:xfrm>
            <a:off x="990720" y="1905120"/>
            <a:ext cx="72388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295280" y="1371600"/>
            <a:ext cx="647712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143000"/>
            <a:ext cx="647676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76520" y="1325520"/>
            <a:ext cx="6172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066680" y="914400"/>
            <a:ext cx="7239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99072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838080"/>
            <a:ext cx="731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838080"/>
            <a:ext cx="7239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990720"/>
            <a:ext cx="7391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60948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90720" y="762120"/>
            <a:ext cx="7086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189080" y="990720"/>
            <a:ext cx="7086600" cy="4757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553080" y="5105520"/>
            <a:ext cx="16160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8T18:02:53Z</dcterms:modified>
  <cp:revision>219</cp:revision>
  <dc:subject/>
  <dc:title>Slide 1</dc:title>
</cp:coreProperties>
</file>